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BCC-FC6D-48E7-8B5C-ADB8F28C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3C8-80D9-4B5F-A6AC-774F4A11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70CFC-7372-41CF-81CF-9A545173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2F81C-1C4D-4250-A217-DFB1AB91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E1251-D7A1-4F51-B33C-90AD3E0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8294D-7880-42F9-9E03-C263C325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35E04-C5FE-4391-8155-6FA1FE01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BEC77-7BB3-4DDF-9B83-9238247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F3B5B-7B68-4F1B-AC9A-3B934493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46607-AA2B-44AA-9C32-A6234A17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10D4B-CC32-4034-BFC8-97117EF2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1D759-0673-4DCB-9744-58653F25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543-4454-4743-8215-D10D4B97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B08A5-DE1E-40CA-A14E-3C111247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EFF33-B046-4CBB-B80F-BBDB48F4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8CACA-B4BF-433D-A676-8716F59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4C940-F43D-46C2-BB3F-5821A7DF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BF210-E719-499A-930C-7F7CBC9C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0FA8C-8FAA-41E1-8970-5201B5F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84229-5D93-44D9-A353-221BAAC8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F55FD-5B94-4966-A414-AD956E4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FCB67-EED3-476A-AAAF-73E5E82F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CA003-0190-4DD3-B878-2A0CBFCA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A0F-5E77-459D-A3DC-9D413CDF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AC9B6-B781-4EB1-A80B-645B9476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5458F-0805-46A1-BEDB-21AD23AB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B3D84-338C-4DE3-8E34-08E5BE39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87C2D-5FB9-42C3-B300-E7094AB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37D2F-885C-4DBD-A357-07F4D4B6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5452E-2F2E-4C1D-BA1C-E97A05B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59519-AAD1-4DE8-9EA3-DA5BABE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F9359-95E1-4343-AF0B-5D71175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8245-1054-4688-AF3F-66D4616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4D1FC-7C88-4993-8868-456EC5F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5D83-7C8D-4CA1-9E40-76B7A1D5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11857-293C-4F9B-8384-ED26235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4BACE-1F58-4B5F-A946-D9B308CE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2B5A1-5291-45F7-B67F-9E7C65A0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AF0BC-197B-4BA4-AA36-8FA46C2F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12CCF-9F53-4C08-BB17-50B2EF9F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03C18-62BB-4122-B217-8612FF06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9FF9B-975F-4BD7-801B-69DA4A28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5D220-E47E-4ADD-B060-36A5AFBB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71CDA-EDF2-48F2-8336-B37071F6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0896A-5393-409E-A288-4A350F6E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624-29FA-46D4-A757-58E4A50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DF052-5E24-48AF-933D-5BE46B6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49BAD-24A7-4F68-B817-2565C03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57765-B212-4293-8A90-06DDFE14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1FDE7-E7A6-4E09-BCEE-F0D3B3B7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007AF-9AE6-472E-9FC1-14CAC916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471B-B9A9-4706-8BA5-4FFCAB8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50B8-F90B-4CF6-B788-BE2E333F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B33-7896-4D3E-B964-44AFDAD8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37F-2836-469D-A1C7-27018087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6D3B-663F-4768-97C8-2F6E19D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209-77EA-44B2-B60D-566ED63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972F-444E-425F-B957-756C52B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D209-F605-4562-8EA6-36F89E2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3B54-64FC-4C2B-A53A-7D3FFCD2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0BA9-2C9F-420A-AECB-C300C4E8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0CF1-B7DC-4511-AB23-A742F61C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FA9F-99BA-4138-B6DB-6F961416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F626-F9B3-4F30-9FE9-F755B0EB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1E4D-4F3E-4031-B39F-586933D9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0CCB-D0FD-4FC2-88E7-9274D97C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6058-0955-4E1F-B8AF-6C94C441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F5F-CB63-4529-8DC1-2832FE05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19D8-2181-46CB-95C2-B3BDDC3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7846-A5D1-4A46-BF15-97D5FCD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5449-F8E9-4265-9E28-1C3F8D2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3F9B-933D-4F25-A37E-496829C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86D3-7165-4411-A646-19E82F0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F26D-1E4F-4380-B760-F547B39E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533F-A940-4172-8800-A05E4D6B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80F5-78FB-4CC0-9314-27EF11B2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CBC5-E2CD-482E-9015-DB736EF1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BF34-5D6E-48F8-AE2B-2D30E9F4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E43-E1BD-485E-838D-F5ACBF57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C416-BFDF-4D64-BA49-4960C07F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D0B6-AF3C-4610-B84F-F029B4E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A111-F855-45A5-BCCE-B5F19B4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32A7-041B-4FF8-A6E2-DAF12BB0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FE83-FAA0-4DC5-877A-5524915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D41C-5780-46DD-A7A7-5D1B39B8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14F2-49F7-4934-9615-46DCC45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BC6B-4B41-4BF4-B52C-385E9E98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50FB-0585-455B-8FCE-FB18588D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392AB-0CD0-4ADE-8750-3EF330FB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9B3-03B5-4CE8-9617-5314C101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265D-B1B1-4BF3-8138-776CCFCC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C611-56EC-478C-B400-7612DB8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9528-8DF1-422A-B4EC-77B166D9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A14CF-9492-4CEE-AEA5-3658256F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6483D-DD93-4494-8731-9EE17F4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1A329-9641-454F-BF02-A5AEA02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DBB8F-514B-4E88-91A7-DE842B3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25D7-86E3-4C34-8610-91E5B13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0BDD-19B3-4903-8802-A5C39E5E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89AC-16CB-4880-AD3E-5E24F1BD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FD1-055B-4204-8574-36DF64A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6747-4066-476B-99AE-8B45A34B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F96E-86FB-4167-878C-53EFFE9C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E62D-5242-470D-A047-AEA6AACB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F82CC-084B-4B8A-9B03-8AED05A7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154D-C6A2-40E9-A608-F1608241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8A8C0-FCD7-483F-B5F2-78610B5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3ADAD-3D36-43AE-9B7E-EA51AAE0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FDB4D-A6A3-4C6C-8CF7-8BE37511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D2536-B229-4EF1-833F-E09D672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C0ED-AA71-4E46-B633-B7382BF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29C-A807-4928-88CF-CC05D98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3660-F72D-4110-8397-9C27485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F6F9-D64D-4588-B63D-020AA9EC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975E-0DBE-4638-B596-984BB3B5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7EE6C-42FB-457F-982B-34D70F85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3A09F-D7FA-46F1-BC3A-8F1964F1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43A9D-28F5-4E92-8AB3-3D16479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D2BF-6B5F-4755-A558-31621070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6D11-034E-462B-BF2C-7999B28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7F719-56A1-4636-B2D8-5B7E83E7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4AE5F-FA76-4BF3-B7F6-A6FE099B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AA6-2251-4463-8F31-F415DD2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B6220-C631-40D6-9CC9-A57D8D5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66617-BC3D-44B0-A4C4-5679266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1E30A-7217-431B-A704-D3333BB7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DBC23-B5DA-4501-B942-28C12AAA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1FDA-C869-4E52-8AF1-578433FE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01A46-839A-460A-920B-33569375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2E439-9AE9-474B-B191-E543415B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487F4-B38D-4AD1-BEC7-E565F78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F893B-3D37-4B36-9123-5154439E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B733-09FA-4733-AC0A-67809DCE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F3D-D25D-45CE-8F7D-88A4B46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0DD0-AF11-47AF-9B6B-33DFBF6B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1A4CC-3779-47EC-B75F-0421430B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AC83E-00D9-44C8-96C9-109F8737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E8E3D-666F-4B1F-A027-10F4319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DBDDC-3274-44B9-A987-AFEA6A4F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D98D-D12D-4A5F-8885-6497FDD0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3360C-A722-42DD-B617-6B591B71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C57F0-02B5-451F-8E26-C25CD6AD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8196F-F72F-4795-B460-9309D9FF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51FDB-69C7-4365-9F98-307FA4E7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9457-B4F8-4C99-98F1-76BBADFC01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A81-A455-47F6-BBAF-F8EF68E055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271C-3348-4DA4-A6E0-B548A6B9B2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3904-33CB-4D65-833B-973E4EDF57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911-0049-42DA-AFAF-01E6397F25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F541-2130-4C1A-85D5-6AA1BA3CC4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A6EF-EE7B-4F41-9F72-AB21EF9094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05FC-9184-4FC5-A538-908BD41143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510-1D6A-45D6-B7DF-33C02485F3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C00A-5841-4960-887E-52335E90E8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B8E4-727A-404C-8227-0D32ADA7C8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3A04-9693-405B-AC65-141726F8FD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5 Svitlo ráno po tme no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lo ráno po tme no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ri úsvit, svetl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é divy Božej mo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ia pieseň vďaky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stvo slávi Stvor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múdrosť veleb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chvála patrí vrel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emi aj na neb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emi aj na neb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chce trápiť dušu star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trieť úsmev žiari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o srdca vložil rad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ovládca žičlivý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láskavý a stál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ca spásy, žehn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e hoden našej chvály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 bez presta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 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edné raz ráno svit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sa navždy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budnú sa strasti všed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eň spásy nastan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m nám tam bude ve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ca sám, náš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chválu vzdáme vďa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n slávny spás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za ten slávny spásy ci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35:16Z</dcterms:modified>
  <cp:revision>68</cp:revision>
  <dc:subject/>
  <dc:title>Je veľký náš Pán, on slávy je Kráľ Nech do všetkých strán  spev vrúcnych znie chvál.</dc:title>
</cp:coreProperties>
</file>